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8CE-1A7E-4814-AA18-BC3C6F49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BD6-E242-45C8-88D4-53238CFC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15E-FE77-44C3-A808-AF8BF9D9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0EE-B6A0-44EA-8BBF-0732A062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6263-0526-4D22-88C6-F280228F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0232-72B6-4C53-8440-F382CC13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A31-E8F8-41BE-A7FD-2B25F4D6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033-65F7-4B23-ACF8-FCA15072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779-2767-45A1-9E51-8582D3BE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C42-3676-4004-AEDF-393C559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881-474A-4FA2-90D9-2FCF5FD1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2FC-1F20-49E3-8978-31643BB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12CB-C47F-49A6-B714-EC4F778D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244-0571-40AE-AEA9-31A31C3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3A7-7D4E-4174-9EFF-06F83604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5EB7-F435-48A1-A8FE-65A55D2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4737-DE63-45B1-943A-E69568E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EC5-135C-4526-9626-3EAF7A8A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C98-C7C0-4743-BDCD-C6228CD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F10-D36D-44DC-AE06-CFD5B00C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A7F-174D-49E4-849F-6B516EE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546-09A5-4295-9BC6-BFCC263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EFD-E6F2-448D-AC92-F04F24CD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5D4-18B4-4DD7-90E0-01EC47F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FDC-973D-420B-9D88-A03938137B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335D-8D1A-44EF-A990-D4C4AEC8C35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liquidsculpture.com/images/water/water-drop.jpg&amp;imgrefurl=http://www.liquidsculpture.com/&amp;usg=__DtyJx5UgmWELvrdBKUf-rgXkuMQ=&amp;h=515&amp;w=630&amp;sz=40&amp;hl=en&amp;start=2&amp;zoom=1&amp;itbs=1&amp;tbnid=px1ZCzRhlGhfHM:&amp;tbnh=112&amp;tbnw=137&amp;prev=/images%3Fq%3Dwater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Water… on Earth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429000"/>
            <a:ext cx="2971800" cy="243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963720"/>
            <a:ext cx="9601200" cy="45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138320"/>
            <a:ext cx="929628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Customer</cp:lastModifiedBy>
  <dcterms:modified xsi:type="dcterms:W3CDTF">2010-09-09T16:31:01Z</dcterms:modified>
  <cp:revision>18</cp:revision>
  <dc:subject/>
  <dc:title>Slide 1</dc:title>
</cp:coreProperties>
</file>